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AFC-5820-472A-95BE-BEB4F635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867-C9DC-4C59-B57D-0F6012EF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D32-16EF-4194-B261-24FF69E2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671-6462-4A97-9A75-825B3EDF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F40-4D3F-47C8-9083-14D85A9A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440-B33E-4234-9BBA-32BC2604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CD0-4DBB-41C4-B97A-C4A7F0BD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6E2-B997-4F0C-8D2C-2B050DEA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151-8861-463C-AF1E-B9811923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529-1795-412F-8F04-39E349F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CB4-BBC6-4539-85BC-980FA89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4AC-3886-4E1C-AA26-5175CB4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C762-4F56-4C40-8F19-D453E47C9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u09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0"/>
            <a:ext cx="3962520" cy="10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أدخل عرش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بالبر أنظر وجه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صارت حياتي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سكيباً من أج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صرتَ ليَ وأن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اتي هناك طوع أمر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683545zjAStOanhQ_ph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05520" y="0"/>
            <a:ext cx="40384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أنسى ذاتي والأ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غدو دوماً خاضع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صارت حيا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ـكيبـاً مـن أج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صرتَ ليَ وأن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اتي هناك طوع  أمر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2-17T14:38:09Z</dcterms:modified>
  <cp:revision>2</cp:revision>
  <dc:subject/>
  <dc:title>PowerPoint Presentation</dc:title>
</cp:coreProperties>
</file>